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537A-422A-4429-BBD9-B0FDE3402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5A1C-BB87-479B-832A-32F9811D0B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651D-B304-489B-BBBC-A2E537CB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04A-81C6-403B-B51B-F866849E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4777-B736-45D9-BDF4-F7DF3DCC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2B08-AC62-47B9-9626-F8BD04E6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71D5-7958-457B-9468-B3FFF1CA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FE51-A3A7-4AC3-B092-677393CB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5D59-0288-4C0B-AA20-219E9539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9139-8855-46EA-9EA2-4CCBC3F0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9BC4-80FA-4705-9F13-58A6D7EB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7C18-9786-4951-A633-7C29B994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D75F-DD29-459D-BF8F-F38305B8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FAE-5AF2-4800-A9B0-B3E3BC12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45BA-3CEB-41D4-839E-99A0560C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C22D-E972-473D-8804-3AD2892B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32E9-8929-48D3-B71C-85F3885C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FACE-CFCA-4F01-967F-398A1231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8B74-8F95-4B80-AF4F-9F07D7B6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FBB8-A7DB-442E-A2ED-FD39A7D7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969-99D7-4A6B-B285-B14BCEEA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250-A32D-4FA6-B174-C6E17A2B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5B9-2941-4F74-B891-9FD0C20B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F7FE-9736-4629-AEA5-7506F818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7FE-C5DA-4E92-A194-5BF90925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209B-65F3-44FE-ADEC-DB6FB7EB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698A-36E8-41BD-A8A0-B2B985FC1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FC4D-7657-4EE5-B542-3D1951C77C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191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b7"/>
                </a:solidFill>
                <a:latin typeface="Comic Sans MS"/>
              </a:rPr>
              <a:t>Idioms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dioms are phrases which people use in everyday language which do not make sense literally but we understand what they me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Let’s see, if you understand the peculiar meaning of some common idioms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5" descr="idiom_home"/>
          <p:cNvPicPr/>
          <p:nvPr/>
        </p:nvPicPr>
        <p:blipFill>
          <a:blip r:embed="rId1"/>
          <a:stretch/>
        </p:blipFill>
        <p:spPr>
          <a:xfrm>
            <a:off x="2050920" y="2205000"/>
            <a:ext cx="517212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o can you define ‘idiom’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Comic Sans MS"/>
              </a:rPr>
              <a:t>An </a:t>
            </a:r>
            <a:r>
              <a:rPr b="1" lang="en-US" sz="2400" spc="-1" strike="noStrike" u="sng">
                <a:solidFill>
                  <a:srgbClr val="ffffb7"/>
                </a:solidFill>
                <a:uFillTx/>
                <a:latin typeface="Comic Sans MS"/>
              </a:rPr>
              <a:t>idiom</a:t>
            </a:r>
            <a:r>
              <a:rPr b="1" lang="en-US" sz="2400" spc="-1" strike="noStrike">
                <a:solidFill>
                  <a:srgbClr val="ffffb7"/>
                </a:solidFill>
                <a:latin typeface="Comic Sans MS"/>
              </a:rPr>
              <a:t> is an expression that has a meaning apart from the meanings of its individual words.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r example: It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 raining cats and dogs. Its literal meaning suggests that cats and dogs are falling from the sky. We interpret it to mean that it is raining har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ther 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o stick your neck out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is to say or do something that is bold and a bit dangerous. A similar idiom that is used for slightly more dangerous situations is to "go out on a limb." In both idioms, the idea is that you put yourself in a vulnerable 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o break the ic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is to be the first one to say or do something, with the expectation that others will then follow. Another idiom that means something similar is "get the ball rolling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o get long in the tooth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means to get old. The expression was originally used when referring to horses since gums recede with age. So the longer the teeth a horse has, the older it is said to b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o have a chip on one's shoulder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is usually an expression to describe a person who acts, as you say, rudely or aggressively, but also in a manner that could be described as "aggressively defensive." The person seems always ready for a fig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BS01204_"/>
          <p:cNvPicPr/>
          <p:nvPr/>
        </p:nvPicPr>
        <p:blipFill>
          <a:blip r:embed="rId1"/>
          <a:stretch/>
        </p:blipFill>
        <p:spPr>
          <a:xfrm>
            <a:off x="7812000" y="76500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Food for thought</a:t>
            </a:r>
            <a:br>
              <a:rPr sz="4400"/>
            </a:br>
            <a:r>
              <a:rPr b="1" lang="en-GB" sz="2000" spc="-1" strike="noStrike">
                <a:solidFill>
                  <a:srgbClr val="ffffb7"/>
                </a:solidFill>
                <a:latin typeface="Comic Sans MS"/>
              </a:rPr>
              <a:t>These idioms are all about food. Can you explain what they really mean?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aking two bits of the che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elling like hot ca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laying goosebe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oing bana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bananastoon"/>
          <p:cNvPicPr/>
          <p:nvPr/>
        </p:nvPicPr>
        <p:blipFill>
          <a:blip r:embed="rId1"/>
          <a:stretch/>
        </p:blipFill>
        <p:spPr>
          <a:xfrm>
            <a:off x="6183360" y="2394000"/>
            <a:ext cx="1396800" cy="1041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waffles"/>
          <p:cNvPicPr/>
          <p:nvPr/>
        </p:nvPicPr>
        <p:blipFill>
          <a:blip r:embed="rId2"/>
          <a:stretch/>
        </p:blipFill>
        <p:spPr>
          <a:xfrm>
            <a:off x="6297480" y="3716280"/>
            <a:ext cx="184464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Century Gothic"/>
              </a:rPr>
              <a:t>Feel like a fish out of water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Century Gothic"/>
              </a:rPr>
              <a:t>Be like a fish out of water</a:t>
            </a:r>
            <a:br>
              <a:rPr sz="40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5" descr="fish_out_of_water"/>
          <p:cNvPicPr/>
          <p:nvPr/>
        </p:nvPicPr>
        <p:blipFill>
          <a:blip r:embed="rId1"/>
          <a:stretch/>
        </p:blipFill>
        <p:spPr>
          <a:xfrm>
            <a:off x="6877080" y="260280"/>
            <a:ext cx="1498680" cy="12193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8"/>
          <p:cNvSpPr/>
          <p:nvPr/>
        </p:nvSpPr>
        <p:spPr>
          <a:xfrm>
            <a:off x="684360" y="1923480"/>
            <a:ext cx="799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n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el uncomfortable because you are in an unfamiliar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el like a fish out of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you feel awkward or uncomfortable because you are in an unusual or unfamiliar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don't like going to the big parties they have. I alway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el like a fish out of wat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dd is a country boy raised in a small town in Northumberland an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s like a fish out of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en he visited bustling London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What does this mean really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shake_a_lega"/>
          <p:cNvPicPr/>
          <p:nvPr/>
        </p:nvPicPr>
        <p:blipFill>
          <a:blip r:embed="rId1"/>
          <a:stretch/>
        </p:blipFill>
        <p:spPr>
          <a:xfrm>
            <a:off x="2987640" y="2060640"/>
            <a:ext cx="3432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And thi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5" descr="hangon"/>
          <p:cNvPicPr/>
          <p:nvPr/>
        </p:nvPicPr>
        <p:blipFill>
          <a:blip r:embed="rId1"/>
          <a:stretch/>
        </p:blipFill>
        <p:spPr>
          <a:xfrm>
            <a:off x="2987640" y="1341360"/>
            <a:ext cx="331308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And what about this on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Turn Someone Off"/>
          <p:cNvPicPr/>
          <p:nvPr/>
        </p:nvPicPr>
        <p:blipFill>
          <a:blip r:embed="rId1"/>
          <a:stretch/>
        </p:blipFill>
        <p:spPr>
          <a:xfrm>
            <a:off x="3203640" y="1916280"/>
            <a:ext cx="314460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Numbers up</a:t>
            </a:r>
            <a:br>
              <a:rPr sz="4000"/>
            </a:br>
            <a:r>
              <a:rPr b="1" lang="en-GB" sz="2000" spc="-1" strike="noStrike">
                <a:solidFill>
                  <a:srgbClr val="ffffb7"/>
                </a:solidFill>
                <a:latin typeface="Comic Sans MS"/>
              </a:rPr>
              <a:t>Lots of idioms are about numbers. See if you can fill in the missing numbers in these says. What do they mean?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2060280"/>
            <a:ext cx="762156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ressed up to the 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lking  ___ to the doz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e in a 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ying ______ fid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_______ hea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Heaven"/>
          <p:cNvPicPr/>
          <p:nvPr/>
        </p:nvPicPr>
        <p:blipFill>
          <a:blip r:embed="rId1"/>
          <a:stretch/>
        </p:blipFill>
        <p:spPr>
          <a:xfrm>
            <a:off x="6588000" y="4149720"/>
            <a:ext cx="2097360" cy="215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Animal Crack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16280"/>
            <a:ext cx="65422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’s raining ____ and dog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ve got a ____ in my thro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se are just ______t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’s taken the lion 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can smell a 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Crocodile-tears"/>
          <p:cNvPicPr/>
          <p:nvPr/>
        </p:nvPicPr>
        <p:blipFill>
          <a:blip r:embed="rId1"/>
          <a:stretch/>
        </p:blipFill>
        <p:spPr>
          <a:xfrm>
            <a:off x="7020000" y="404640"/>
            <a:ext cx="1376280" cy="1729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mly0460l"/>
          <p:cNvPicPr/>
          <p:nvPr/>
        </p:nvPicPr>
        <p:blipFill>
          <a:blip r:embed="rId2"/>
          <a:stretch/>
        </p:blipFill>
        <p:spPr>
          <a:xfrm>
            <a:off x="6372360" y="4221000"/>
            <a:ext cx="2411280" cy="2394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9:29:36Z</dcterms:created>
  <dc:creator>Jane Armstrong</dc:creator>
  <dc:description/>
  <dc:language>en-US</dc:language>
  <cp:lastModifiedBy>Harnett County Schools</cp:lastModifiedBy>
  <dcterms:modified xsi:type="dcterms:W3CDTF">2014-01-23T16:00:28Z</dcterms:modified>
  <cp:revision>2</cp:revision>
  <dc:subject/>
  <dc:title>Idioms</dc:title>
</cp:coreProperties>
</file>